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2A41-7A10-45E9-ACB3-0300C3DF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3360-133A-4C2F-BD5E-5F0377E7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6D30-1445-4FF3-BEFC-D88D9B11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4DB1-69A8-4E38-9EFF-0ADFE2950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BD30-0EA0-4540-8D5F-6334D412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7228-786F-486D-9C0A-176DC523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B85A-92A4-4557-AD6D-1D065D6D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A89A-6C19-4264-BFD7-412B5F58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41D0-745C-4789-A5B6-B75554A0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5A38-247B-4770-BC26-61101F3E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0D1D-51F5-4DDB-A6E4-37350E01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0F12-0350-4798-B27C-5FBBE276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2613-F925-492D-B1DE-1209D751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6448-CA57-485A-93D9-B0D7242B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0CDD-0689-485F-A8E1-D283CAB2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D8A3-5F3C-4130-AAA6-E9665577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B61F-7E1D-4CCD-AF16-4F5C73A9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4BBE7-FC90-4512-AFDC-39F7594B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40479-D480-4BDA-99E6-8D5AA868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01B6D-4BBC-4A20-9008-48A5C9A8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C029A-00DF-45D2-B8BE-4FE3029C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A76F8-4FED-45F9-9A9D-497C02E6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47A1-804A-46F1-8914-9C7E6894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DD217-67CC-4A97-853B-1DCB309A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5AC76-47CB-432A-BDD3-147CBFF4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A611D-FB31-4346-BCE0-F6196E6C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01749-A219-47DE-942F-84501833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7DC93-4C88-405D-B7F9-3CE35785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50993-75B8-4383-870B-E7A35C36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8BF1F-2DB8-4F9C-B3E1-79A9EC3F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AE071-699C-4669-A0ED-58892C97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7D86A-100E-4630-AC08-19B4F0E0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5BD05-13CA-4C41-BF0D-D405C58D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1947-79A5-4CC3-8C9B-CA8CDEA1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F3011-CC60-4FF5-B2FD-8B5D2969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6C170-C975-43E5-9CA2-1DC0E52B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B9F61-B141-4456-8FF9-186140F8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627F6-44BF-4D42-B873-912329F7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16688-EFAC-462E-8CDC-23D06C85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23CA2-7631-4741-8BAA-3BAB638E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F2378-7384-43DE-99B9-1A2757A2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4F9EE-6C09-403C-872C-4A4F8708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29E60-F7DC-4D23-AE40-E7FE7A94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5B29-2610-4786-AEC6-38A75827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95C3-C4AC-4B3F-A3B6-3BC6F963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E891-8343-46CA-972B-E2C99751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A108-3DED-4CCF-A594-676E9623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BD7-53B1-4508-8C71-2BBBCF69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FF3C-ED64-46CC-B8F4-BC6B0CEAE16D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DD5D-2ADF-4A20-B6B8-7009E36E26C8}" type="slidenum"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2C49-477D-41A4-B789-5509BD8D0713}" type="slidenum"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5299-E532-40D1-98B7-E0D4EE8FA829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82560" y="6480"/>
            <a:ext cx="7785000" cy="688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1320" y="714240"/>
            <a:ext cx="80010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Keterampilan berbahas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language arts/ language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 dalam kurikulum sekolah biasanya mencakup empat segi: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nyimak/ mendengarkan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listen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Berbicar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speak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mbac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read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nulis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writ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MEMBACA SEBAGAI SUATU KETERAMPILA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14200" y="785880"/>
            <a:ext cx="8715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membaca mencakup tiga komponen, yaitu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pengenalan terhadap aksara serta tanda bac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korelasi aksara beserta tanda-tanda baca dengan unsur-unsur linguistik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69200" indent="-78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yang formal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hubungan lebih lanjut dari A dan B dengan makna atau 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ani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SPEK-ASPEK MEMBAC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bentuk huruf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Keterampilan mekanis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unsur-unsur linguisti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hubungan bunyi dan huruf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cepat lambatnya membac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Aspek-aspek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pemahaman pengertian sederhan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ahaman signifikasi/ makn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pemahaman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evaluasi/ penilaian isi dan bentu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cepatan membaca : fleksibel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Straight Connector 4"/>
          <p:cNvSpPr/>
          <p:nvPr/>
        </p:nvSpPr>
        <p:spPr>
          <a:xfrm>
            <a:off x="1500120" y="4929120"/>
            <a:ext cx="28584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6"/>
          <p:cNvSpPr/>
          <p:nvPr/>
        </p:nvSpPr>
        <p:spPr>
          <a:xfrm flipV="1">
            <a:off x="1785960" y="3857400"/>
            <a:ext cx="0" cy="1857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Straight Arrow Connector 12"/>
          <p:cNvCxnSpPr/>
          <p:nvPr/>
        </p:nvCxnSpPr>
        <p:spPr>
          <a:xfrm>
            <a:off x="1785960" y="385776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0" name="Straight Arrow Connector 14"/>
          <p:cNvCxnSpPr/>
          <p:nvPr/>
        </p:nvCxnSpPr>
        <p:spPr>
          <a:xfrm>
            <a:off x="1785960" y="5715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1" name="Straight Connector 18"/>
          <p:cNvSpPr/>
          <p:nvPr/>
        </p:nvSpPr>
        <p:spPr>
          <a:xfrm>
            <a:off x="4214880" y="3929040"/>
            <a:ext cx="2858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20"/>
          <p:cNvSpPr/>
          <p:nvPr/>
        </p:nvSpPr>
        <p:spPr>
          <a:xfrm flipV="1">
            <a:off x="4429080" y="3714480"/>
            <a:ext cx="0" cy="857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23"/>
          <p:cNvCxnSpPr/>
          <p:nvPr/>
        </p:nvCxnSpPr>
        <p:spPr>
          <a:xfrm>
            <a:off x="4429080" y="371484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4" name="Straight Arrow Connector 25"/>
          <p:cNvCxnSpPr/>
          <p:nvPr/>
        </p:nvCxnSpPr>
        <p:spPr>
          <a:xfrm>
            <a:off x="4429080" y="392904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5" name="Straight Arrow Connector 28"/>
          <p:cNvCxnSpPr/>
          <p:nvPr/>
        </p:nvCxnSpPr>
        <p:spPr>
          <a:xfrm>
            <a:off x="4429080" y="428580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6" name="Straight Connector 36"/>
          <p:cNvSpPr/>
          <p:nvPr/>
        </p:nvSpPr>
        <p:spPr>
          <a:xfrm>
            <a:off x="4429080" y="5715000"/>
            <a:ext cx="2858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38"/>
          <p:cNvSpPr/>
          <p:nvPr/>
        </p:nvSpPr>
        <p:spPr>
          <a:xfrm flipV="1">
            <a:off x="4714920" y="5144760"/>
            <a:ext cx="1440" cy="7858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Arrow Connector 44"/>
          <p:cNvCxnSpPr/>
          <p:nvPr/>
        </p:nvCxnSpPr>
        <p:spPr>
          <a:xfrm>
            <a:off x="4714920" y="514368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9" name="Straight Arrow Connector 46"/>
          <p:cNvCxnSpPr/>
          <p:nvPr/>
        </p:nvCxnSpPr>
        <p:spPr>
          <a:xfrm>
            <a:off x="4714920" y="542880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0" name="Straight Arrow Connector 48"/>
          <p:cNvCxnSpPr/>
          <p:nvPr/>
        </p:nvCxnSpPr>
        <p:spPr>
          <a:xfrm>
            <a:off x="4714920" y="5715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1" name="Straight Arrow Connector 51"/>
          <p:cNvCxnSpPr/>
          <p:nvPr/>
        </p:nvCxnSpPr>
        <p:spPr>
          <a:xfrm>
            <a:off x="4714920" y="592884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2" name="Straight Arrow Connector 26"/>
          <p:cNvCxnSpPr/>
          <p:nvPr/>
        </p:nvCxnSpPr>
        <p:spPr>
          <a:xfrm>
            <a:off x="4429080" y="4572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28760" y="99972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omprehensi  membaca  = hambatan dalam mengingat dan memecahkan masala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baha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otiva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ahaman membaca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rsep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mbangan konse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seluruhan pengalam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traight Connector 4"/>
          <p:cNvSpPr/>
          <p:nvPr/>
        </p:nvSpPr>
        <p:spPr>
          <a:xfrm>
            <a:off x="4143240" y="2428920"/>
            <a:ext cx="0" cy="1857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9"/>
          <p:cNvSpPr/>
          <p:nvPr/>
        </p:nvSpPr>
        <p:spPr>
          <a:xfrm>
            <a:off x="3643200" y="3357720"/>
            <a:ext cx="5000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Straight Arrow Connector 11"/>
          <p:cNvCxnSpPr/>
          <p:nvPr/>
        </p:nvCxnSpPr>
        <p:spPr>
          <a:xfrm>
            <a:off x="4143240" y="2428920"/>
            <a:ext cx="8582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7" name="Straight Arrow Connector 13"/>
          <p:cNvCxnSpPr/>
          <p:nvPr/>
        </p:nvCxnSpPr>
        <p:spPr>
          <a:xfrm>
            <a:off x="4143240" y="2928960"/>
            <a:ext cx="8582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8" name="Straight Arrow Connector 15"/>
          <p:cNvCxnSpPr/>
          <p:nvPr/>
        </p:nvCxnSpPr>
        <p:spPr>
          <a:xfrm>
            <a:off x="4142880" y="3357720"/>
            <a:ext cx="7866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9" name="Straight Arrow Connector 17"/>
          <p:cNvCxnSpPr/>
          <p:nvPr/>
        </p:nvCxnSpPr>
        <p:spPr>
          <a:xfrm>
            <a:off x="4142880" y="3857760"/>
            <a:ext cx="7866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0" name="Straight Arrow Connector 19"/>
          <p:cNvCxnSpPr/>
          <p:nvPr/>
        </p:nvCxnSpPr>
        <p:spPr>
          <a:xfrm>
            <a:off x="4143240" y="4285800"/>
            <a:ext cx="8582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FAKTOR-FAKTOR</a:t>
            </a: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 YANG MEMPENGARUHI KOMPREHENSI MEMBAC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9288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Faktor-faktor yang mempengaruhi komprehensi membaca dibedakan menjad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ua, yaitu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Inter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linguisti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min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c. motivas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. kemampuan m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.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Ekster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bedakan menjadi dua kategori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unsur-unsur bacaan/ ciri-ciri tekstu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kebahasaan teks (kesulitan bahan bacaan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organisasi teks (bab, subbab, susunan tulisan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Kualitas lingkungan p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persiapan guru sebelum, pada saat, atau setelah pelajaran m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guna menolong siswa memahami te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suasana umum penyelesaian tugas (hambatan, dorongan, dsb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BACA NYARING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6429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nyaring adalah suatu aktivitas atau kegiatan yang merupakan ala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bagi guru, murid, ataupun pembaca bersama-sam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dengan orang lain atau pendengar untuk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nangkap serta memahami informasi, pikiran, dan perasaan seorang pengara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BACA DALAM HAT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surve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ekstensif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sekil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dangk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dalam hat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intensif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traight Connector 4"/>
          <p:cNvSpPr/>
          <p:nvPr/>
        </p:nvSpPr>
        <p:spPr>
          <a:xfrm flipH="1">
            <a:off x="2998800" y="3929040"/>
            <a:ext cx="1440" cy="2073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8"/>
          <p:cNvSpPr/>
          <p:nvPr/>
        </p:nvSpPr>
        <p:spPr>
          <a:xfrm>
            <a:off x="3000240" y="6000840"/>
            <a:ext cx="21456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11"/>
          <p:cNvSpPr/>
          <p:nvPr/>
        </p:nvSpPr>
        <p:spPr>
          <a:xfrm>
            <a:off x="3000240" y="3929040"/>
            <a:ext cx="21456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14"/>
          <p:cNvSpPr/>
          <p:nvPr/>
        </p:nvSpPr>
        <p:spPr>
          <a:xfrm flipH="1">
            <a:off x="5500800" y="3286080"/>
            <a:ext cx="1440" cy="1214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16"/>
          <p:cNvSpPr/>
          <p:nvPr/>
        </p:nvSpPr>
        <p:spPr>
          <a:xfrm>
            <a:off x="5500800" y="3286080"/>
            <a:ext cx="4284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18"/>
          <p:cNvSpPr/>
          <p:nvPr/>
        </p:nvSpPr>
        <p:spPr>
          <a:xfrm>
            <a:off x="5500800" y="3857760"/>
            <a:ext cx="4284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20"/>
          <p:cNvSpPr/>
          <p:nvPr/>
        </p:nvSpPr>
        <p:spPr>
          <a:xfrm>
            <a:off x="5500800" y="4500720"/>
            <a:ext cx="4284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3571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onstantia"/>
              </a:rPr>
              <a:t>Membaca ekstensif adalah membaca secara luas dimana objeknya sebanyak mungkin teks  dalam waktu yang sesingkat mungkin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8200" indent="-26820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1. Membaca Surve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Penelaahan dengan cara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eriksa, meneliti indeks-indeks, daftar kata-kata yang terdapat dalam buku-buku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lihat-lihat, memeriksa, meneliti judul-judul bab yang terdapat dalam buku-buku yang bersangkutan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eriksa, meneliti bagan, skema, 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outline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buku yang bersangkut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2. Membaca Sekil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baca sekilas (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skimming)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adalah sejenis membaca yang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membuat mata ki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bergerak dengan cepa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lihat, memperhatik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bahan tertulis untu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ncari serta mendapatk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informasi dan penerang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8584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Ada tiga tujuan utama dalam membaca sekilas ini, yaitu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a. untuk memperoleh suatu kesan umum dari suatu buku atau artikel, tulisan singka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. untuk menemukan hal tertentu dari suatu bahan bacaan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c. untuk menemukan/ menempatkan bahan yang diperlukan dalam perpustak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3. Membaca Dangk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dangkal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superficial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 pada dasarnya bertujuan untuk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peroleh pemahaman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dangkal yang bersifat luaran,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tidak mendalam dari suatu bahan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ac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dangkal ini biasanya dilakukan bila kita membaca demi kesenangan, membaca bacaan ringan yang mendatangkan kebahagiaan di waktu senggang, misalnya membaca cerpen, novel ringan, dsb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3571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intensif adalah studi saksama, telaah isi, dan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penanganan terperinci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dilaksanakan di dalam kelas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terhadap suatu tugas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pendek kira-kira dua sampai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empat halaman setiap har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agian dan teknik membaca intensif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kuesion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latihan pola-pola kalim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latihan kosa k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telaah kata-k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dik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diskusi um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Yang termasuk ke dalam kelompok membaca intensif ini adalah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telaah isi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content study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telaah bahasa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linguistic study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lam bahasa Inggris, istilah </a:t>
            </a:r>
            <a:r>
              <a:rPr b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berbahasa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kaji ke dalam dua interpretasi, yaitu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Art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seni) yang dipergunakan untuk melukiskan sesuatu yang bersifat </a:t>
            </a: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rsonal, kreatif, dan original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Skills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keterampilan) yang dipakai untuk menyatakan sesuatu  yang bersifat </a:t>
            </a: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kanis, eksak, imperso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HUBUNGAN ANTARA EMPAT KETERAMPILAN BERBAHAS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4200" y="78552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buClr>
                <a:srgbClr val="10cf9b"/>
              </a:buClr>
              <a:buSzPct val="6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Hubungan antara berbicara dengan menyimak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ujaran (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speech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dipelajari melalui menyimak dan meniru (imitasi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adanya pengaruh stimulus yang ditemui (contoh: desa ⪥ kota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. ujaran anak mencerminkan domisili, misal: ucapan, intonasi, kosa kata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ksi, pola-pola kalima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. berdasarkan faktor usia, anak yang lebih muda, lebih mudah pah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alimat yang jauh lebih panjang dan rumit daripada kalimat-kalim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yang dapat diucapkanny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e. meningkatkan keterampilan menyimak berarti meningkatk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berbicara seseorang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f. bunyi atau suara merupakan suatu faktor penting dalam peningkat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ara pemakaian kata-kata anak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g. berbicara dengan bantuan alat-alat peraga (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visual aid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ak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ghasilkan penangkapan informasi yang lebih baik pada piha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yimak (Dawson (et al) 1963: 29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5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8584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2520" indent="-9252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2. Hubungan antara menyimak dengan membaca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ajaran serta petunjuk-petunjuk dalam membaca diberikan oleh guru melalui bahasa lisa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yimak merupakan cara atau metode utama bagi pelajaran lis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verbalized learning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khususnya bagi golongan anak yang caca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Walaupun menyimak pemaham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listening comprehension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lebih unggul daripada membaca pemaham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reading comprehension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anak-anak sering gagal untuk memahaminya dan tetap menyimpan/ memakai/ menguasai fakta yang mereka dengar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Para pelajar membutuhkan pola pengajaran menyimak lebih efektif dan lebih teratur agar memaksimalkan proses pembelajara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Kosa kata atau perbendaharaan kata menyimak yang sangat terbatas mempunyai kaitan dengan kesukaran-kesukaran dalam belajar membaca secara baik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2876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3. Hubungan antara menyimak dengan menuli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menyimak dengan baik akan memudahkan seorang anak dal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uangkan apa yang ada dalam interpretasinya secara terstruktu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sesuai apa yang dipahaminy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Seseorang yang memiliki daya simak yang baik akan memiliki day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imajinasi dan intuisi yang baik serta mampu mengapresiasi apa yang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da dalam pikirannya dengan tulis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HUBUNGAN ANTARA EKSPRESI LISAN DAN EKSPRESI TULI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14200" y="78552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B1 &amp; B2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Menyimak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Berbicara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Membaca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Menuli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Sifat ekspresi lisan: - kurang terstruktu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lebih sering berubah-ubah (tidak konsiste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memiliki kecenderungan lebih kacau dan membingungka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daripada komunikasi tuli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adanya kemungkinan bergulirnya kalimat yang tak berujung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pangkal serta berulang-ulang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Sifat ekspresi tulis : - cenderung lebih unggul karena lebih baik dalam penyampaian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isi pikira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kalimat yang tersaji lebih terstruktu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lebih formal dalam gaya bahasa dan jauh lebih teratur dalam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pengertian ide-id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memungkinkan adanya kesempatan untuk memperbaiki kalimat-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kalimatnya beberapa kali sebelum dia menyelesaikan tulisannya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Straight Connector 10"/>
          <p:cNvSpPr/>
          <p:nvPr/>
        </p:nvSpPr>
        <p:spPr>
          <a:xfrm flipH="1">
            <a:off x="4572000" y="1143000"/>
            <a:ext cx="1440" cy="357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2"/>
          <p:cNvSpPr/>
          <p:nvPr/>
        </p:nvSpPr>
        <p:spPr>
          <a:xfrm>
            <a:off x="1143000" y="1500120"/>
            <a:ext cx="67867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Straight Arrow Connector 15"/>
          <p:cNvCxnSpPr/>
          <p:nvPr/>
        </p:nvCxnSpPr>
        <p:spPr>
          <a:xfrm flipH="1">
            <a:off x="114120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7" name="Straight Arrow Connector 17"/>
          <p:cNvCxnSpPr/>
          <p:nvPr/>
        </p:nvCxnSpPr>
        <p:spPr>
          <a:xfrm flipH="1">
            <a:off x="378432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8" name="Straight Arrow Connector 19"/>
          <p:cNvCxnSpPr/>
          <p:nvPr/>
        </p:nvCxnSpPr>
        <p:spPr>
          <a:xfrm flipH="1">
            <a:off x="5428440" y="1500120"/>
            <a:ext cx="252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9" name="Straight Arrow Connector 21"/>
          <p:cNvCxnSpPr/>
          <p:nvPr/>
        </p:nvCxnSpPr>
        <p:spPr>
          <a:xfrm flipH="1">
            <a:off x="792936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PENGERTIAN MEMBAC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920" y="856800"/>
            <a:ext cx="8858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suatu proses yang dilakukan serta dipergunakan oleh pembaca  untuk memperoleh pesan, yang hendak disampaikan oleh penulis melalui media kata-kata/ bahasa tulis (Hodgson, 1960: 43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ri segi linguistik, membaca adalah suatu proses penyandian kembali dan pembacaan sandi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 recording and decoding prosess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, berlainan dengan berbicara dan menulis yang justru melibatkan penyandi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encoding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(Anderson, 1972: 209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dapat pula diartikan sebagai suatu metode yang kita pergunakan untuk berkomunikasi dengan diri kita sendiri dan kadang-kadang dengan orang lain – yaitu mengkomunikasikan makna yang terkandung atau tersirat pada lambang-lambang tertuli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dapat didefinisikan penafsiran yang bermakna terhadap bahasa tulis (Haris dan Sipay, 1980: 447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proses pemberian makna terhadap tulisan, sesuai dengan maksud penulis (Emerald V. Dechant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proses komunikasi yang berupa pemerolehan informasi dari penulis kepada pembaca (Frank Smith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tanggapan terhadap pengertian yang dinyatakan penulis dalam kata, kalimat, paragraf, atau bentuk yang lebih panjang (David Russe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Tujuan utama membaca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dalah untuk mencari serta memperoleh informasi, mencakup isi,  dan memahami makna bac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HAKIKAT KOMPREHENSI MEMBAC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7858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lam KBBI Pusat Bahasa dinyatakan bahwa makna dari komprehensi: bersifat mampu menangkap (menerima) dengan baik, luas dan lengkap (tentang ruang lingkup atau isi), mempunyai dan memperlihatkan wawasan yang lu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Tiga komponen utama komprehensi bacaa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odean kemba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erolehan makna leksik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Organisasi tek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13:57:54Z</dcterms:created>
  <dc:creator>Sg_FuN</dc:creator>
  <dc:description/>
  <dc:language>en-US</dc:language>
  <cp:lastModifiedBy>Sg_FuN</cp:lastModifiedBy>
  <dcterms:modified xsi:type="dcterms:W3CDTF">2011-10-09T14:35:20Z</dcterms:modified>
  <cp:revision>41</cp:revision>
  <dc:subject/>
  <dc:title>KETERAMPILAN BERBAHASA</dc:title>
</cp:coreProperties>
</file>