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388B-B99D-46DE-BC91-73C0E872B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6057-52B9-4188-97FA-5787006F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6A07-B3E0-4F30-8F59-98A451E1C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392E-554D-4A1C-B52C-2201ABBBA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9DF4-542B-40F1-9329-6A2705D9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A087-F1B8-4059-AAF1-520BFE3B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75CD-1801-4525-A019-4135A836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31D7-45A6-4454-89FE-F5062F2E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9C26-8CB7-4887-91C6-15D6EF30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5450-FFD3-4E53-85F8-718B54F4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A45A-B1D4-4740-BFC4-687487AE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182C-3057-4C6A-8E86-06F46292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8A6D-0EC6-418D-A156-3871854FFD9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600" y="4572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000000"/>
                </a:solidFill>
                <a:latin typeface="comic"/>
              </a:rPr>
              <a:t>MENULIS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Pengertian paragraf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Paragraf merupakan inti penuangan buah pikiran dalam sebuah karangan  (Muhammad Rohmadi, dkk. 2008: 105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Keraf (dalam Muhammad Rohmadi, dkk. 2008: 105) menyebut paragraf dengan istilah alinea. Alinea adalah kesatuan pikiran yang lebih tinggi atau lebih luas dari kalima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Asul Wiyanto (2004: 15) paragraf adalah sekelompok kalimat yanag saling berhubungan dan bersama-sama menjelaskan satu unit buah pikiran untuk mendukung buah pikiran yang lebih besar, yaitu buah pikiran yang diungkapkan dalam seluruh tulis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228240"/>
            <a:ext cx="8229600" cy="60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MACAM-MACAM  PARAGRAF DAN PENGEMBANGANNY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ada dasarnya macam paragraf dan pengembanganny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iklasifikasikan sebagai berikut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erdasarkan 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 tekniknya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a. secara alamiah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b. klimaks dan antiklimak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c. umum-khusu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Berdasarkan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ujuannya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. paragraf pembuka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. paragraf penghubung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. paragraf penutu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erdasarkan isi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. pertentangan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perbandingan (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nalogi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. contoh-contoh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. sebab akiba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. definisi lua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. klasifik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304560"/>
            <a:ext cx="8229600" cy="60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dasarkan tujuan dan sifatny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paragraf deskrip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paragraf nara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paragraf eksposi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paragraf argumenta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 paragraf persuas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AK KALIMAT UT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76176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a empat cara untuk meletakkan kalimat utama, yait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wal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khir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wal dan akhir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npa kalimat uta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Baskerville Old Face"/>
              </a:rPr>
              <a:t>KEGUNAAN PARAGR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65120" indent="-34920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Kegunaan paragraf diantaranya yait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Untuk menandai paembukan topik baru, atau pengembangan lebih lanjut topik sebelumnya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Untuk menambah hal-hal yang penting atau untuk merinci apa yang sudah diutarakan dalam paragraf sebelumnya atau paragraf yang terdahul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Bernard MT Condensed"/>
              </a:rPr>
              <a:t>UNSUR-UNSUR PARAGR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Asul Wiyanto (2004:20) menyatakan bahwa untuk menyusun paragraf secara logis dan sistematis maka diperlukan unsur paragraf antara la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1. Transi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2. Kalimat topik atau kalimat ut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3. Kalimat penje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4. Kalimat pene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74320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eeece1"/>
                </a:solidFill>
                <a:latin typeface="comic"/>
                <a:ea typeface="Arabic Typesetting"/>
              </a:rPr>
              <a:t>1. TRANSIS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9528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Transisi terbagi menjadi beberapa hal di bawah ini, yaitu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id-ID" sz="1600" spc="-1" strike="noStrike">
                <a:solidFill>
                  <a:srgbClr val="000000"/>
                </a:solidFill>
                <a:latin typeface="Calibri"/>
              </a:rPr>
              <a:t>Transisi berupa kata (kelompok kata)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, pada dasarnya dikelompokkan berdasarkan penanda hubungannya, antara lai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a. penanda hubungan kelanjut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dan, serta, lagi pul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bahkan, kedua, ketiga, selanjutnya, akhirny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b. penanda hubungan waktu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dahulu, sekarang, kini, kelak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nanti, setelah, sesudah, tahun depan, besok lus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klimaks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paling..., se...nya, ter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d. penanda perbanding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perti, ibarat, sama, bak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e. penanda kontras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tetapi, biarpun, walaupun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urutan jarak: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di sana, di situ, dekat, sebelah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ilustrasi: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umpama, contoh, misalny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sebab akibat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bab, oleh sebab itu, oleh karen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penanda syarat (pengandaian)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jika, kalau, jikalau, andaikat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andainy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j.  penanda kesimpul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ringkasnya, kesimpulannya, garis besarnya,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rangkuma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buClr>
                <a:srgbClr val="000000"/>
              </a:buClr>
              <a:buFont typeface="Calibri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53352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Transisi berupa kali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Kalimat yang digunakan sebagai transisi dikenal pula dengan istilah kalimat penuntun (prolo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Conto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id-ID" sz="2400" spc="-1" strike="noStrike">
                <a:solidFill>
                  <a:srgbClr val="000000"/>
                </a:solidFill>
                <a:latin typeface="Calibri"/>
              </a:rPr>
              <a:t>Ringkasnya, morfologi adalah bagian dari ilmu bahasa yang membicarakan seluk beluk kata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. Yang dibicarakan dalam morfologi adalah perubahan-perubahan bentuk kata, baik dengan afiksasi, reuplikasi, maupun komposisi.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Transisi berupa paragra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dakalanya transisi berupa paragraf pendek. Transisi ini digunakan untuk membelokkan pembahasan dari satu pokok pikiran ke pokok pikiran yang lain. Paragraf ini berfungsi untuk menjembatani paragraf sebelumny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45720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Kalimat Ut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Utama  adalah kalimat yang mengad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kok  pikiran  paragra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penjel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urut Asul Wiyanto (2006: 27-30) menyatakan bahwa kalimat penjelas berisi pikiran penjelas yang di wujudkan dalam kalimat-kalimat yang isinya menjelaskan, merinci, membandingkan atau memberi contoh secara khus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pene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hadiran kalimat penegas dalam suatu paragraf tidak mutlak. Artinya, boleh ada, boleh tidak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ARAT-SYARAT  PEMBENTUKAN PARAGRA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syaratan paragraf yait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satuan (kohes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agraf dianggap mempunyai kesatuan jika kalimat-kalimat dalam paragraf itu tidak terlepas dengan topiknya atau relevan dengan topi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paduan (koherens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limat antar paragraf haruslah memiliki hubungan timbal balik, adapun kepaduan sebuah paragraf dibangun dengan memperhatika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. unsur kebahasaan yang digambarkan denga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) repetisi atau pengulangan kata ku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) kata gant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) kata transisi atau ungkapan penghubu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. pemerincian dan urutan isi paragra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lengkap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paragraf harus memuat adanya kohesi dan koherensi secara utuh agar membentuk organisme kalimat yang mudah dipaham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53352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Panjang paragra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Paragraf  minimal harus terdiri dari dua kalimat panjang. Atau jika terdiri lebih dari tiga kalimat bisa menggunakan tiga kalimat pendek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Pola susunan paragraf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Pola susunan paragraf ada dua macam sebagaimana contoh beriku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Calibri"/>
              </a:rPr>
              <a:t>Lanjutan..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914400"/>
            <a:ext cx="822960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b. 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13:14:16Z</dcterms:created>
  <dc:creator>User</dc:creator>
  <dc:description/>
  <dc:language>en-US</dc:language>
  <cp:lastModifiedBy>HEWLET PACKARD</cp:lastModifiedBy>
  <dcterms:modified xsi:type="dcterms:W3CDTF">2014-01-19T14:40:21Z</dcterms:modified>
  <cp:revision>24</cp:revision>
  <dc:subject/>
  <dc:title>Slide 1</dc:title>
</cp:coreProperties>
</file>