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93F-A656-4EA5-9E4D-4009B843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56B-8269-441E-9879-52B43F8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AE4-5EED-4754-9C34-D003A8CD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2B7-2B1F-4B41-9366-40B00AD5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B0B9-E40D-430F-9890-3F6F1CB4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BE25-CC84-45AC-B0F8-2DED4E0F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9391B-6BB4-4D36-B289-1711FA38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7B9B-7992-4516-8801-E297EBD1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850C-9290-4CF6-A333-165CA92E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5FF9-8F56-42A6-9732-D54316A8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D4F9-1A5B-4245-8A35-CC2FE7C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2409-3961-4B73-9717-987FF74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412B-3232-4324-958E-DD9CFC7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804B-5F01-435A-999A-CD16677C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1345-76BE-427E-9AF4-402023B5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6025-A99A-4773-8717-17A21364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75F-5E71-4D4E-9E27-2AFDA107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4D881-59BB-423F-87EE-887C7027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2D369-5918-40D6-AF31-A2CB67EF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B115-B4AF-4DC1-A0E5-B549C1F0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1CA3-10E8-4DFB-B2D5-6E638D1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80122-8D7F-4460-A626-D26CA2BE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238-9EE6-4B97-8C32-98DF1D10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D530-37C7-497B-8DB8-FC2A258C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1AFD7-CFD9-4099-A7F2-2FAD1767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4188-7986-4F15-A162-7B7329D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8D4BA-CDAF-4A14-B2A6-BD643D9B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3148-82D2-4AC4-99A0-17464D52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D750-8516-4F35-9854-5BC9397E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CC1F7-1318-4AAC-9DFB-C8FA65FF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872D-C065-4F8F-AABC-625194D7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CADB-7E06-4C19-A67F-CE23C57D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1B5C7-79A6-4C65-A428-25CAFD47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E0E-BCE2-40B9-A99C-0B286B9D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5312-60AC-41B7-B1A3-0B55198C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566B-76E6-4DF7-AAD3-E4245AE1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9BF9D-727E-48CE-92ED-AD791850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5CEB3-D65A-4242-8157-A3E0EF6A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3B031-F803-475F-8985-90E4A486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5D42-0357-4F9E-B6BF-E10E5216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105AC-147C-47C5-89A6-E9312BC0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6ED7-2E90-4F63-93CF-26A91CB7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DAD1-0814-4FAA-A743-27D426E5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53B-39D9-49F6-9D65-29765FBF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A62-BA82-4243-963A-F41C663D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737-891D-4703-8787-78853D7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C08-BD31-4676-81BE-68F1E196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7DD-AF31-4A5A-863D-0CCEAF6C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8DD6-289F-4ACA-90B6-6464E28B753D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A48B-E5A9-4ADC-850A-716C3675115B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6BC1-1CF4-4992-ADB2-1F827DF009F5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F621-AD5C-42D1-988C-3241880F700F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480"/>
            <a:ext cx="7785000" cy="688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714240"/>
            <a:ext cx="80010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Keterampilan berbahas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anguage arts/ language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 dalam kurikulum sekolah biasanya mencakup empat segi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yimak/ mendengarkan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listen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Berbicar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speak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mbaca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read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Menulis (</a:t>
            </a:r>
            <a:r>
              <a:rPr b="0" i="1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writing skills</a:t>
            </a:r>
            <a:r>
              <a:rPr b="0" lang="id-ID" sz="3000" spc="-1" strike="noStrike">
                <a:solidFill>
                  <a:srgbClr val="ffffff"/>
                </a:solidFill>
                <a:latin typeface="Cambria Math"/>
                <a:ea typeface="Cambria Math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MEMBACA SEBAGAI SUATU KETERAMPILA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785880"/>
            <a:ext cx="8715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membaca mencakup tiga komponen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pengenalan terhadap aksara serta tanda bac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orelasi aksara beserta tanda-tanda baca dengan unsur-unsur linguisti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69200" indent="-78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formal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lebih lanjut dari A dan B dengan makna atau 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an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MEMBA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bentuk huruf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Keterampilan mekanis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unsur-unsur linguisti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nalan hubungan bunyi dan huruf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epat lambatnya membac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Aspek-aspek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pemahaman pengertian sederha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signifikasi/ makna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pemahaman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valuasi/ penilaian isi dan bentuk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cepatan membaca : fleksibel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1" lang="id-ID" sz="16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500120" y="4929120"/>
            <a:ext cx="28584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6"/>
          <p:cNvSpPr/>
          <p:nvPr/>
        </p:nvSpPr>
        <p:spPr>
          <a:xfrm flipV="1">
            <a:off x="1785960" y="385740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2"/>
          <p:cNvCxnSpPr/>
          <p:nvPr/>
        </p:nvCxnSpPr>
        <p:spPr>
          <a:xfrm>
            <a:off x="1785960" y="385776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0" name="Straight Arrow Connector 14"/>
          <p:cNvCxnSpPr/>
          <p:nvPr/>
        </p:nvCxnSpPr>
        <p:spPr>
          <a:xfrm>
            <a:off x="178596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Straight Connector 18"/>
          <p:cNvSpPr/>
          <p:nvPr/>
        </p:nvSpPr>
        <p:spPr>
          <a:xfrm>
            <a:off x="4214880" y="392904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0"/>
          <p:cNvSpPr/>
          <p:nvPr/>
        </p:nvSpPr>
        <p:spPr>
          <a:xfrm flipV="1">
            <a:off x="4429080" y="3714480"/>
            <a:ext cx="0" cy="857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>
            <a:off x="4429080" y="37148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4" name="Straight Arrow Connector 25"/>
          <p:cNvCxnSpPr/>
          <p:nvPr/>
        </p:nvCxnSpPr>
        <p:spPr>
          <a:xfrm>
            <a:off x="4429080" y="392904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5" name="Straight Arrow Connector 28"/>
          <p:cNvCxnSpPr/>
          <p:nvPr/>
        </p:nvCxnSpPr>
        <p:spPr>
          <a:xfrm>
            <a:off x="4429080" y="4285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6" name="Straight Connector 36"/>
          <p:cNvSpPr/>
          <p:nvPr/>
        </p:nvSpPr>
        <p:spPr>
          <a:xfrm>
            <a:off x="4429080" y="5715000"/>
            <a:ext cx="2858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38"/>
          <p:cNvSpPr/>
          <p:nvPr/>
        </p:nvSpPr>
        <p:spPr>
          <a:xfrm flipV="1">
            <a:off x="4714920" y="5144760"/>
            <a:ext cx="1440" cy="78588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44"/>
          <p:cNvCxnSpPr/>
          <p:nvPr/>
        </p:nvCxnSpPr>
        <p:spPr>
          <a:xfrm>
            <a:off x="4714920" y="514368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29" name="Straight Arrow Connector 46"/>
          <p:cNvCxnSpPr/>
          <p:nvPr/>
        </p:nvCxnSpPr>
        <p:spPr>
          <a:xfrm>
            <a:off x="4714920" y="542880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0" name="Straight Arrow Connector 48"/>
          <p:cNvCxnSpPr/>
          <p:nvPr/>
        </p:nvCxnSpPr>
        <p:spPr>
          <a:xfrm>
            <a:off x="4714920" y="5715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1" name="Straight Arrow Connector 51"/>
          <p:cNvCxnSpPr/>
          <p:nvPr/>
        </p:nvCxnSpPr>
        <p:spPr>
          <a:xfrm>
            <a:off x="4714920" y="5928840"/>
            <a:ext cx="3578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2" name="Straight Arrow Connector 26"/>
          <p:cNvCxnSpPr/>
          <p:nvPr/>
        </p:nvCxnSpPr>
        <p:spPr>
          <a:xfrm>
            <a:off x="4429080" y="4572000"/>
            <a:ext cx="3578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28760" y="99972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mprehensi  membaca  = hambatan dalam mengingat dan memecahkan masala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baha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otiva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ahaman membaca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embangan konse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seluruhan pengalam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908440" indent="-290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4143240" y="2428920"/>
            <a:ext cx="0" cy="1857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9"/>
          <p:cNvSpPr/>
          <p:nvPr/>
        </p:nvSpPr>
        <p:spPr>
          <a:xfrm>
            <a:off x="3643200" y="3357720"/>
            <a:ext cx="5000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1"/>
          <p:cNvCxnSpPr/>
          <p:nvPr/>
        </p:nvCxnSpPr>
        <p:spPr>
          <a:xfrm>
            <a:off x="4143240" y="242892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7" name="Straight Arrow Connector 13"/>
          <p:cNvCxnSpPr/>
          <p:nvPr/>
        </p:nvCxnSpPr>
        <p:spPr>
          <a:xfrm>
            <a:off x="4143240" y="2928960"/>
            <a:ext cx="85824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8" name="Straight Arrow Connector 15"/>
          <p:cNvCxnSpPr/>
          <p:nvPr/>
        </p:nvCxnSpPr>
        <p:spPr>
          <a:xfrm>
            <a:off x="4142880" y="335772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39" name="Straight Arrow Connector 17"/>
          <p:cNvCxnSpPr/>
          <p:nvPr/>
        </p:nvCxnSpPr>
        <p:spPr>
          <a:xfrm>
            <a:off x="4142880" y="3857760"/>
            <a:ext cx="78660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0" name="Straight Arrow Connector 19"/>
          <p:cNvCxnSpPr/>
          <p:nvPr/>
        </p:nvCxnSpPr>
        <p:spPr>
          <a:xfrm>
            <a:off x="4143240" y="4285800"/>
            <a:ext cx="858240" cy="25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FAKTOR-FAKTOR</a:t>
            </a: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 YANG MEMPENGARUHI KOMPREHENSI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Faktor-faktor yang mempengaruhi komprehensi membaca dibedakan menjad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ua, yaitu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linguisti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min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motivas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kemampu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kstern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bedakan menjadi dua kategori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nsur-unsur bacaan/ ciri-ciri tekstu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kebahasaan teks (kesulitan bahan baca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organisasi teks (bab, subbab, susunan tulisan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Kualitas lingkungan p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1) persiapan guru sebelum, pada saat, atau setelah pelajaran membac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guna menolong siswa memahami te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2) suasana umum penyelesaian tugas (hambatan, dorongan, dsb.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NYARING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42960"/>
            <a:ext cx="82296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nyaring adalah suatu aktivitas atau kegiatan yang merupakan alat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bagi guru, murid, ataupun pembaca bersama-sam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dengan orang lain atau pendengar untuk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nangkap serta memahami informasi, pikiran, dan perasaan seorang pengar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MEMBACA DALAM HA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urve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ekstensif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sekil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ngk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dalam hat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89400" indent="-2489400" algn="just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Membaca intensi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4"/>
          <p:cNvSpPr/>
          <p:nvPr/>
        </p:nvSpPr>
        <p:spPr>
          <a:xfrm flipH="1">
            <a:off x="2998800" y="3929040"/>
            <a:ext cx="1440" cy="20732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8"/>
          <p:cNvSpPr/>
          <p:nvPr/>
        </p:nvSpPr>
        <p:spPr>
          <a:xfrm>
            <a:off x="3000240" y="60008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1"/>
          <p:cNvSpPr/>
          <p:nvPr/>
        </p:nvSpPr>
        <p:spPr>
          <a:xfrm>
            <a:off x="3000240" y="3929040"/>
            <a:ext cx="21456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4"/>
          <p:cNvSpPr/>
          <p:nvPr/>
        </p:nvSpPr>
        <p:spPr>
          <a:xfrm flipH="1">
            <a:off x="5500800" y="3286080"/>
            <a:ext cx="1440" cy="12146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6"/>
          <p:cNvSpPr/>
          <p:nvPr/>
        </p:nvSpPr>
        <p:spPr>
          <a:xfrm>
            <a:off x="5500800" y="3286080"/>
            <a:ext cx="4284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8"/>
          <p:cNvSpPr/>
          <p:nvPr/>
        </p:nvSpPr>
        <p:spPr>
          <a:xfrm>
            <a:off x="5500800" y="385776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0"/>
          <p:cNvSpPr/>
          <p:nvPr/>
        </p:nvSpPr>
        <p:spPr>
          <a:xfrm>
            <a:off x="5500800" y="4500720"/>
            <a:ext cx="4284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000000"/>
                </a:solidFill>
                <a:latin typeface="Constantia"/>
              </a:rPr>
              <a:t>Membaca ekstensif adalah membaca secara luas dimana objeknya sebanyak mungkin teks  dalam waktu yang sesingkat mungkin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8200" indent="-26820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142920"/>
            <a:ext cx="8715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onstantia"/>
              </a:rPr>
              <a:t>1. Membaca Surve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Penelaahan dengan cara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indeks-indeks, daftar kata-kata yang terdapat dalam buku-buku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-lihat, memeriksa, meneliti judul-judul bab yang terdapat dalam buku-buku yang bersangkutan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buClr>
                <a:srgbClr val="0f6fc6"/>
              </a:buClr>
              <a:buSzPct val="8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eriksa, meneliti bagan, skema, 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outline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buku yang bersangku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2. Membaca Sekil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mbaca sekilas (</a:t>
            </a:r>
            <a:r>
              <a:rPr b="0" i="1" lang="id-ID" sz="2200" spc="-1" strike="noStrike">
                <a:solidFill>
                  <a:srgbClr val="000000"/>
                </a:solidFill>
                <a:latin typeface="Constantia"/>
              </a:rPr>
              <a:t>skimming)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adalah sejenis membaca yang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membuat mata kit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ergerak dengan cepa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lihat, memperhati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bahan tertulis unt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mencari serta mendapatka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2200" spc="-1" strike="noStrike">
                <a:solidFill>
                  <a:srgbClr val="000000"/>
                </a:solidFill>
                <a:latin typeface="Constantia"/>
              </a:rPr>
              <a:t>informasi dan penerang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da tiga tujuan utama dalam membaca sekilas ini, yaitu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a. untuk memperoleh suatu kesan umum dari suatu buku atau artikel, tulisan singka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. untuk menemukan hal tertentu dari suatu bahan bacaan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c. untuk menemukan/ menempatkan bahan yang diperlukan dalam perpustak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3. Membaca Dang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perficial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 pada dasarnya bertujuan untuk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peroleh pemahaman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dangkal yang bersifat luaran,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tidak mendalam dari suatu bah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dangkal ini biasanya dilakukan bila kita membaca demi kesenangan, membaca bacaan ringan yang mendatangkan kebahagiaan di waktu senggang, misalnya membaca cerpen, novel ringan, ds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7120"/>
            <a:ext cx="822960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intensif adalah studi saksama, telaah isi, dan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anganan terperinci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dilaksanakan di dalam kelas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terhadap suatu tugas yang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pendek kira-kira dua sampai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    empat halaman setiap h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Bagian dan teknik membaca intensif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kuesio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pola-pola 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latihan kosa 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telaah kata-k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k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- diskusi umu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Yang termasuk ke dalam kelompok membaca intensif ini adalah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isi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content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Membaca telaah bahasa (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inguistic study readi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bahasa Inggris, istilah </a:t>
            </a:r>
            <a:r>
              <a:rPr b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ahasa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aji ke dalam dua interpretasi, yaitu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Art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seni) yang dipergunakan untuk melukiskan sesuatu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rsonal, kreatif, dan original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Skills </a:t>
            </a:r>
            <a:r>
              <a:rPr b="0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(keterampilan) yang dipakai untuk menyatakan sesuatu  yang bersifat </a:t>
            </a:r>
            <a:r>
              <a:rPr b="0" i="1" lang="id-ID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kanis, eksak, imperso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MPAT KETERAMPILAN BERBAHAS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78552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Cambria Math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Hubungan antara berbicara dengan menyimak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ujaran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peech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dipelajari melalui menyimak dan meniru (imitasi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adanya pengaruh stimulus yang ditemui (contoh: desa ⪥ kota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. ujaran anak mencerminkan domisili, misal: ucapan, intonasi, kosa kata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iksi, pola-pola kalima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. berdasarkan faktor usia, anak yang lebih muda, lebih mudah pah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alimat yang jauh lebih panjang dan rumit daripada kalimat-kali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yang dapat diucapkan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e. meningkatkan keterampilan menyimak berarti meningkat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keterampilan berbicara seseorang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f. bunyi atau suara merupakan suatu faktor penting dalam peningkat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cara pemakaian kata-kata anak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g. berbicara dengan bantuan alat-alat peraga (</a:t>
            </a: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visual aid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k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ghasilkan penangkapan informasi yang lebih baik pada piha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yimak (Dawson (et al) 1963: 29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14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4" marL="393120" indent="-393120" algn="just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5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2520" indent="-9252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2. Hubungan antara menyimak dengan membaca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ajaran serta petunjuk-petunjuk dalam membaca diberikan oleh guru melalui bahasa lis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yimak merupakan cara atau metode utama bagi pelajaran lis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verbalized learn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khususnya bagi golongan anak yang caca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Walaupun menyimak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listen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lebih unggul daripada membaca pemaham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reading comprehension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anak-anak sering gagal untuk memahaminya dan tetap menyimpan/ memakai/ menguasai fakta yang mereka dengar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a pelajar membutuhkan pola pengajaran menyimak lebih efektif dan lebih teratur agar memaksimalkan proses pembelajaran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ambria Math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Kosa kata atau perbendaharaan kata menyimak yang sangat terbatas mempunyai kaitan dengan kesukaran-kesukaran dalam belajar membaca secara baik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33912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2876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3. Hubungan antara menyimak dengan menuli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. menyimak dengan baik akan memudahkan seorang anak dal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nuangkan apa yang ada dalam interpretasinya secara terstruktur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sesuai apa yang dipahaminya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b. Seseorang yang memiliki daya simak yang baik akan memiliki day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imajinasi dan intuisi yang baik serta mampu mengapresiasi apa yang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 dalam pikirannya dengan tulis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HUBUNGAN ANTARA EKSPRESI LISAN DAN EKSPRESI TULI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14200" y="78552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B1 &amp; B2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Menyimak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Berbicar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Membaca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Men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lisan: - kurang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sering berubah-ubah (tidak konsiste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iliki kecenderungan lebih kacau dan membingungk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daripada komunikasi tuli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adanya kemungkinan bergulirnya kalimat yang tak beruju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angkal serta berulang-ulang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Sifat ekspresi tulis : - cenderung lebih unggul karena lebih baik dalam penyampaian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isi pikiran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kalimat yang tersaji lebih terstruktu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lebih formal dalam gaya bahasa dan jauh lebih teratur dalam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pengertian ide-ide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- memungkinkan adanya kesempatan untuk memperbaiki kalimat-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kalimatnya beberapa kali sebelum dia menyelesaikan tulisanny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0"/>
          <p:cNvSpPr/>
          <p:nvPr/>
        </p:nvSpPr>
        <p:spPr>
          <a:xfrm flipH="1">
            <a:off x="4572000" y="1143000"/>
            <a:ext cx="1440" cy="357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>
            <a:off x="1143000" y="1500120"/>
            <a:ext cx="678672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traight Arrow Connector 15"/>
          <p:cNvCxnSpPr/>
          <p:nvPr/>
        </p:nvCxnSpPr>
        <p:spPr>
          <a:xfrm flipH="1">
            <a:off x="114120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7" name="Straight Arrow Connector 17"/>
          <p:cNvCxnSpPr/>
          <p:nvPr/>
        </p:nvCxnSpPr>
        <p:spPr>
          <a:xfrm flipH="1">
            <a:off x="378432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8" name="Straight Arrow Connector 19"/>
          <p:cNvCxnSpPr/>
          <p:nvPr/>
        </p:nvCxnSpPr>
        <p:spPr>
          <a:xfrm flipH="1">
            <a:off x="5428440" y="1500120"/>
            <a:ext cx="252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09" name="Straight Arrow Connector 21"/>
          <p:cNvCxnSpPr/>
          <p:nvPr/>
        </p:nvCxnSpPr>
        <p:spPr>
          <a:xfrm flipH="1">
            <a:off x="7929360" y="1500120"/>
            <a:ext cx="2160" cy="2865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4617b"/>
                </a:solidFill>
                <a:latin typeface="Cambria Math"/>
                <a:ea typeface="Cambria Math"/>
              </a:rPr>
              <a:t>PENGERTIAN MEMBACA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85680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suatu proses yang dilakukan serta dipergunakan oleh pembaca  untuk memperoleh pesan, yang hendak disampaikan oleh penulis melalui media kata-kata/ bahasa tulis (Hodgson, 1960: 43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ri segi linguistik, membaca adalah suatu proses penyandian kembali dan pembacaan sandi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a recording and decoding prosess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, berlainan dengan berbicara dan menulis yang justru melibatkan penyandian (</a:t>
            </a:r>
            <a:r>
              <a:rPr b="0" i="1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coding</a:t>
            </a: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) (Anderson, 1972: 209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pula diartikan sebagai suatu metode yang kita pergunakan untuk berkomunikasi dengan diri kita sendiri dan kadang-kadang dengan orang lain – yaitu mengkomunikasikan makna yang terkandung atau tersirat pada lambang-lambang tertuli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1681560" indent="-168156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dapat didefinisikan penafsiran yang bermakna terhadap bahasa tulis (Haris dan Sipay, 1980: 44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pemberian makna terhadap tulisan, sesuai dengan maksud penulis (Emerald V. Dechant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proses komunikasi yang berupa pemerolehan informasi dari penulis kepada pembaca (Frank Smith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mbaca adalah tanggapan terhadap pengertian yang dinyatakan penulis dalam kata, kalimat, paragraf, atau bentuk yang lebih panjang (David Russe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1076400" indent="-1076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ujuan utama membaca </a:t>
            </a: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adalah untuk mencari serta memperoleh informasi, mencakup isi,  dan memahami makna baca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4617b"/>
                </a:solidFill>
                <a:latin typeface="Cambria Math"/>
                <a:ea typeface="Cambria Math"/>
              </a:rPr>
              <a:t>HAKIKAT KOMPREHENSI MEMBAC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858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Dalam KBBI Pusat Bahasa dinyatakan bahwa makna dari komprehensi: bersifat mampu menangkap (menerima) dengan baik, luas dan lengkap (tentang ruang lingkup atau isi), mempunyai dan memperlihatkan wawasan yang lu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Tiga komponen utama komprehensi baca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ngodean kemba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Pemerolehan makna leksik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863800" indent="-2863800">
              <a:lnSpc>
                <a:spcPct val="15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ambria Math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Organisasi tek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13:57:54Z</dcterms:created>
  <dc:creator>Sg_FuN</dc:creator>
  <dc:description/>
  <dc:language>en-US</dc:language>
  <cp:lastModifiedBy>Sg_FuN</cp:lastModifiedBy>
  <dcterms:modified xsi:type="dcterms:W3CDTF">2011-10-09T14:35:20Z</dcterms:modified>
  <cp:revision>41</cp:revision>
  <dc:subject/>
  <dc:title>KETERAMPILAN BERBAHASA</dc:title>
</cp:coreProperties>
</file>