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C8F-07D3-417C-9ED1-805E293B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295-5C20-459D-B2AE-7B069D5E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8A7-ED70-499D-A138-B601D77D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908-7EB6-4FF4-B0DB-30FF51F2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B3E-66E7-4A04-B7EB-EBAFCEAF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6D4-AED1-440F-83E3-DA83A02E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485-6AE7-450C-BD89-58F03117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EE5-391C-4B22-9B32-E2776188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B1E-92AB-430D-97EF-1A7D6D63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8F4-D5D7-4D62-9698-1364E50E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F7C-2FF3-4A04-8584-E4F8F581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246-F664-4CAD-9910-C970FF78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5032-9A70-4279-8D02-F357C283FD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omic"/>
              </a:rPr>
              <a:t>MENULIS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engertian paragra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aragraf merupakan inti penuangan buah pikiran dalam sebuah karangan  (Muhammad Rohmadi, dkk. 2008: 10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Keraf (dalam Muhammad Rohmadi, dkk. 2008: 105) menyebut paragraf dengan istilah alinea. Alinea adalah kesatuan pikiran yang lebih tinggi atau lebih luas dari kalim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Asul Wiyanto (2004: 15) paragraf adalah sekelompok kalimat yanag saling berhubungan dan bersama-sama menjelaskan satu unit buah pikiran untuk mendukung buah pikiran yang lebih besar, yaitu buah pikiran yang diungkapkan dalam seluruh tulis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CAM-MACAM  PARAGRAF DAN PENGEMBANGANNY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da dasarnya macam paragraf dan pengembanganny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klasifikasikan sebagai beriku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 teknik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. secara alamia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. klimaks dan antiklima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c. umum-khusu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ujuan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aragraf pembuk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paragraf penghubung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paragraf penut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i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ertentangan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perbandingan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ogi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contoh-conto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. sebab akiba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. definisi lu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. klasifik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tujuan dan sifa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aragraf deskrip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paragraf nar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aragraf eksposi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paragraf argument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paragraf persua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AK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176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 empat cara untuk meletakkan kalimat utam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dan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pa kalimat ut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askerville Old Face"/>
              </a:rPr>
              <a:t>KEGUNAAN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Kegunaan paragraf diantaranya yait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ndai paembukan topik baru, atau pengembangan lebih lanjut topik sebelumny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mbah hal-hal yang penting atau untuk merinci apa yang sudah diutarakan dalam paragraf sebelumnya atau paragraf yang terdahul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ernard MT Condensed"/>
              </a:rPr>
              <a:t>UNSUR-UNSUR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Asul Wiyanto (2004:20) menyatakan bahwa untuk menyusun paragraf secara logis dan sistematis maka diperlukan unsur paragraf antara l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1. Trans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2. Kalimat topik atau kalimat ut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3. Kalimat pen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4. Kalimat pene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eeece1"/>
                </a:solidFill>
                <a:latin typeface="comic"/>
                <a:ea typeface="Arabic Typesetting"/>
              </a:rPr>
              <a:t>1. TRANSI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Transisi terbagi menjadi beberapa hal di bawah ini, yai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d-ID" sz="1600" spc="-1" strike="noStrike">
                <a:solidFill>
                  <a:srgbClr val="000000"/>
                </a:solidFill>
                <a:latin typeface="Calibri"/>
              </a:rPr>
              <a:t>Transisi berupa kata (kelompok kata)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, pada dasarnya dikelompokkan berdasarkan penanda hubungannya, antara la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. penanda hubungan kelanjut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n, serta, lagi pul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bahkan, kedua, ketiga, selanjutnya, akhirny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. penanda hubungan waktu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hulu, sekarang, kini, kelak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nanti, setelah, sesudah, tahun depan, besok lus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klimak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paling..., se...nya, ter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d. penanda perbanding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perti, ibarat, sama, bak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e. penanda kontra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tetapi, biarpun, walaupun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urutan jarak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di sana, di situ, dekat, sebelah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ilustrasi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umpama, contoh, misal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sebab akibat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bab, oleh sebab itu, oleh karen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penanda syarat (pengandaian)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jika, kalau, jikalau, andaik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andai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.  penanda kesimpul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ingkasnya, kesimpulannya, garis besarnya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angkum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buClr>
                <a:srgbClr val="000000"/>
              </a:buClr>
              <a:buFont typeface="Calibri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kali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alimat yang digunakan sebagai transisi dikenal pula dengan istilah kalimat penuntun (pro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Calibri"/>
              </a:rPr>
              <a:t>Ringkasnya, morfologi adalah bagian dari ilmu bahasa yang membicarakan seluk beluk kata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. Yang dibicarakan dalam morfologi adalah perubahan-perubahan bentuk kata, baik dengan afiksasi, reuplikasi, maupun komposisi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paragra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kalanya transisi berupa paragraf pendek. Transisi ini digunakan untuk membelokkan pembahasan dari satu pokok pikiran ke pokok pikiran yang lain. Paragraf ini berfungsi untuk menjembatani paragraf sebelum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Utama  adalah kalimat yang mengad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kok  pikiran  paragr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je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urut Asul Wiyanto (2006: 27-30) menyatakan bahwa kalimat penjelas berisi pikiran penjelas yang di wujudkan dalam kalimat-kalimat yang isinya menjelaskan, merinci, membandingkan atau memberi contoh secara khus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e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hadiran kalimat penegas dalam suatu paragraf tidak mutlak. Artinya, boleh ada, boleh tida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ARAT-SYARAT  PEMBENTUKAN PARAGRA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yaratan paragraf yai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satuan (kohe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f dianggap mempunyai kesatuan jika kalimat-kalimat dalam paragraf itu tidak terlepas dengan topiknya atau relevan dengan top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paduan (koheren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mat antar paragraf haruslah memiliki hubungan timbal balik, adapun kepaduan sebuah paragraf dibangun dengan memperhatik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unsur kebahasaan yang digambarkan deng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repetisi atau pengulangan kata ku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kata gan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kata transisi atau ungkapan penghubu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pemerincian dan urutan isi para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lengk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aragraf harus memuat adanya kohesi dan koherensi secara utuh agar membentuk organisme kalimat yang mudah dipah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anjang paragr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aragraf  minimal harus terdiri dari dua kalimat panjang. Atau jika terdiri lebih dari tiga kalimat bisa menggunakan tiga kalimat pende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ola susunan paragraf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ola susunan paragraf ada dua macam sebagaimana contoh beriku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an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40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. 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3:14:16Z</dcterms:created>
  <dc:creator>User</dc:creator>
  <dc:description/>
  <dc:language>en-US</dc:language>
  <cp:lastModifiedBy>HEWLET PACKARD</cp:lastModifiedBy>
  <dcterms:modified xsi:type="dcterms:W3CDTF">2014-01-19T14:40:21Z</dcterms:modified>
  <cp:revision>24</cp:revision>
  <dc:subject/>
  <dc:title>Slide 1</dc:title>
</cp:coreProperties>
</file>