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3A7-6580-4C15-A875-A3D3F634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B7EE-0BD9-4870-978D-D71659AA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338F-FB67-4C86-AF1E-3ED0DBA3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6F9-4D23-4B92-BA43-B61803A0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5DF1-722C-4A02-8BCE-4544EA97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86A4-0FAA-4D7D-AB79-A86E06C3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89C1-4E55-42DE-BBBB-20203BAE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3D8C-4EC1-4F1A-B4F1-206DC8D1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6718-9452-443E-9E80-8D58997E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581C-E922-4B0A-A596-8CA088B3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EA83-2D0C-4411-9EE0-5F3E3AF4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D973-91DA-4FA0-85E0-C441B1AA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2461-E7E5-4730-AFB4-2897D049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0514-209C-4589-AC68-D504B39B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41AD-88C5-4BA4-BD18-8B6B16D2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C8BC-1EE4-484D-B8AE-088B1F81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03A0-B0C6-4251-A05A-FFE1DF15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567F1-55B0-4A8E-9D5E-2623C918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B889A-6641-42C2-A084-FC31120A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34A23-91B7-4904-9259-F9AFDC5F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A9193-F8B0-45EA-83D5-2C57F7BF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A92AD-9399-4CC7-B376-46EE3877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5F6-29E0-4F66-AB81-8A914BB9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8B9BF-7D52-442D-90D1-52D7F470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FB94E-01E6-4CFF-B9F6-4550CF5B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4F264-F77F-498A-95E8-84415AC5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96ED1-C940-438E-8711-3B8CA155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15ADD-6AF5-4ED0-89CC-D47EA201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039BB-360A-448D-A11A-7C6370F9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9F8A7-B44C-474B-8107-6BAA0B45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30929-CE68-43F8-8DED-61362EF1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997AB-FD37-4490-8959-60428245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AB68F-F7FB-4392-B4F6-48797887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45C-AA5C-4522-B716-0B90945D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F5FAD-5DC2-40E8-B8F4-FFDDA9A2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2553E-CE7C-42AF-A92E-AC183FA0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E9046-8648-4B30-9C91-CE11C30D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C3738-855B-4E75-8AEB-8991DA21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E7A75-0D82-4272-BAC6-9ABDA751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62797-66D3-4A87-A9FC-FCB15BC5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E0BF8-11D1-4696-A449-1381A88F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B3BDD-04F3-4967-A3E8-65078F4A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CFE4A-CF76-4744-AEAA-22848B38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4A68-D027-4C2C-8D03-F191DDBF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09E2-3071-4415-AF47-23AFA508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CA37-8FBC-4948-BA4D-5406DE2C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D0F-A738-4520-BE2D-DE8F417F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5295-1458-490F-8C2D-F4A8C5FA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7939-5BD2-4321-AD10-7597923EF270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73E5-3F2E-4DE6-8472-99BCA165C7B3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BFD8-843D-4674-818D-6FC365CE1F1F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6BD4-9771-4A2D-9FB4-31E2591B18BF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82560" y="6480"/>
            <a:ext cx="7785000" cy="688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Keterampilan berbahas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anguage arts/ language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 dalam kurikulum sekolah biasanya mencakup empat segi: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yimak/ mendengarkan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isten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Berbicar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speak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mbac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read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ulis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writ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MEMBACA SEBAGAI SUATU KETERAMPILA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785880"/>
            <a:ext cx="8715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membaca mencakup tiga komponen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pengenalan terhadap aksara serta tanda bac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orelasi aksara beserta tanda-tanda baca dengan unsur-unsur linguistik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69200" indent="-78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forma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lebih lanjut dari A dan B dengan makna atau 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an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MEMBA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bentuk huruf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Keterampilan mekanis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unsur-unsur linguisti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hubungan bunyi dan huruf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cepat lambatnya membac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pemahaman pengertian sederha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signifikasi/ mak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pemahaman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evaluasi/ penilaian isi dan bentu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cepatan membaca : fleksibel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Straight Connector 4"/>
          <p:cNvSpPr/>
          <p:nvPr/>
        </p:nvSpPr>
        <p:spPr>
          <a:xfrm>
            <a:off x="1500120" y="4929120"/>
            <a:ext cx="28584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6"/>
          <p:cNvSpPr/>
          <p:nvPr/>
        </p:nvSpPr>
        <p:spPr>
          <a:xfrm flipV="1">
            <a:off x="1785960" y="385740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12"/>
          <p:cNvCxnSpPr/>
          <p:nvPr/>
        </p:nvCxnSpPr>
        <p:spPr>
          <a:xfrm>
            <a:off x="1785960" y="385776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0" name="Straight Arrow Connector 14"/>
          <p:cNvCxnSpPr/>
          <p:nvPr/>
        </p:nvCxnSpPr>
        <p:spPr>
          <a:xfrm>
            <a:off x="178596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Straight Connector 18"/>
          <p:cNvSpPr/>
          <p:nvPr/>
        </p:nvSpPr>
        <p:spPr>
          <a:xfrm>
            <a:off x="4214880" y="392904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20"/>
          <p:cNvSpPr/>
          <p:nvPr/>
        </p:nvSpPr>
        <p:spPr>
          <a:xfrm flipV="1">
            <a:off x="4429080" y="3714480"/>
            <a:ext cx="0" cy="857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3"/>
          <p:cNvCxnSpPr/>
          <p:nvPr/>
        </p:nvCxnSpPr>
        <p:spPr>
          <a:xfrm>
            <a:off x="4429080" y="37148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4" name="Straight Arrow Connector 25"/>
          <p:cNvCxnSpPr/>
          <p:nvPr/>
        </p:nvCxnSpPr>
        <p:spPr>
          <a:xfrm>
            <a:off x="4429080" y="39290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5" name="Straight Arrow Connector 28"/>
          <p:cNvCxnSpPr/>
          <p:nvPr/>
        </p:nvCxnSpPr>
        <p:spPr>
          <a:xfrm>
            <a:off x="4429080" y="4285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6" name="Straight Connector 36"/>
          <p:cNvSpPr/>
          <p:nvPr/>
        </p:nvSpPr>
        <p:spPr>
          <a:xfrm>
            <a:off x="4429080" y="571500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38"/>
          <p:cNvSpPr/>
          <p:nvPr/>
        </p:nvSpPr>
        <p:spPr>
          <a:xfrm flipV="1">
            <a:off x="4714920" y="5144760"/>
            <a:ext cx="1440" cy="785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44"/>
          <p:cNvCxnSpPr/>
          <p:nvPr/>
        </p:nvCxnSpPr>
        <p:spPr>
          <a:xfrm>
            <a:off x="4714920" y="514368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9" name="Straight Arrow Connector 46"/>
          <p:cNvCxnSpPr/>
          <p:nvPr/>
        </p:nvCxnSpPr>
        <p:spPr>
          <a:xfrm>
            <a:off x="4714920" y="5428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0" name="Straight Arrow Connector 48"/>
          <p:cNvCxnSpPr/>
          <p:nvPr/>
        </p:nvCxnSpPr>
        <p:spPr>
          <a:xfrm>
            <a:off x="471492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1" name="Straight Arrow Connector 51"/>
          <p:cNvCxnSpPr/>
          <p:nvPr/>
        </p:nvCxnSpPr>
        <p:spPr>
          <a:xfrm>
            <a:off x="4714920" y="592884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2" name="Straight Arrow Connector 26"/>
          <p:cNvCxnSpPr/>
          <p:nvPr/>
        </p:nvCxnSpPr>
        <p:spPr>
          <a:xfrm>
            <a:off x="4429080" y="4572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28760" y="99972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mprehensi  membaca  = hambatan dalam mengingat dan memecahkan masala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baha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otiva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membaca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ep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mbangan konse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seluruhan pengalam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traight Connector 4"/>
          <p:cNvSpPr/>
          <p:nvPr/>
        </p:nvSpPr>
        <p:spPr>
          <a:xfrm>
            <a:off x="4143240" y="242892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9"/>
          <p:cNvSpPr/>
          <p:nvPr/>
        </p:nvSpPr>
        <p:spPr>
          <a:xfrm>
            <a:off x="3643200" y="3357720"/>
            <a:ext cx="5000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11"/>
          <p:cNvCxnSpPr/>
          <p:nvPr/>
        </p:nvCxnSpPr>
        <p:spPr>
          <a:xfrm>
            <a:off x="4143240" y="242892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7" name="Straight Arrow Connector 13"/>
          <p:cNvCxnSpPr/>
          <p:nvPr/>
        </p:nvCxnSpPr>
        <p:spPr>
          <a:xfrm>
            <a:off x="4143240" y="292896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8" name="Straight Arrow Connector 15"/>
          <p:cNvCxnSpPr/>
          <p:nvPr/>
        </p:nvCxnSpPr>
        <p:spPr>
          <a:xfrm>
            <a:off x="4142880" y="335772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9" name="Straight Arrow Connector 17"/>
          <p:cNvCxnSpPr/>
          <p:nvPr/>
        </p:nvCxnSpPr>
        <p:spPr>
          <a:xfrm>
            <a:off x="4142880" y="385776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0" name="Straight Arrow Connector 19"/>
          <p:cNvCxnSpPr/>
          <p:nvPr/>
        </p:nvCxnSpPr>
        <p:spPr>
          <a:xfrm>
            <a:off x="4143240" y="4285800"/>
            <a:ext cx="8582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FAKTOR-FAKTOR</a:t>
            </a: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 YANG MEMPENGARUHI KOMPREHENSI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Faktor-faktor yang mempengaruhi komprehensi membaca dibedakan menjad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ua, yaitu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linguisti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min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motivas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kemampu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ks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bedakan menjadi dua kategori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nsur-unsur bacaan/ ciri-ciri tekstu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kebahasaan teks (kesulitan bahan baca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organisasi teks (bab, subbab, susunan tulis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ualitas lingkungan p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persiapan guru sebelum, pada saat, atau setelah pelajar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guna menolong siswa memahami te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suasana umum penyelesaian tugas (hambatan, dorongan, dsb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NYAR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nyaring adalah suatu aktivitas atau kegiatan yang merupakan ala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bagi guru, murid, ataupun pembaca bersama-sam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dengan orang lain atau pendengar untuk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nangkap serta memahami informasi, pikiran, dan perasaan seorang pengara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DALAM HA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urve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ekstensif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ekil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ngk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lam hat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intensi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traight Connector 4"/>
          <p:cNvSpPr/>
          <p:nvPr/>
        </p:nvSpPr>
        <p:spPr>
          <a:xfrm flipH="1">
            <a:off x="2998800" y="3929040"/>
            <a:ext cx="1440" cy="2073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8"/>
          <p:cNvSpPr/>
          <p:nvPr/>
        </p:nvSpPr>
        <p:spPr>
          <a:xfrm>
            <a:off x="3000240" y="60008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1"/>
          <p:cNvSpPr/>
          <p:nvPr/>
        </p:nvSpPr>
        <p:spPr>
          <a:xfrm>
            <a:off x="3000240" y="39290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14"/>
          <p:cNvSpPr/>
          <p:nvPr/>
        </p:nvSpPr>
        <p:spPr>
          <a:xfrm flipH="1">
            <a:off x="5500800" y="3286080"/>
            <a:ext cx="1440" cy="1214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16"/>
          <p:cNvSpPr/>
          <p:nvPr/>
        </p:nvSpPr>
        <p:spPr>
          <a:xfrm>
            <a:off x="5500800" y="3286080"/>
            <a:ext cx="4284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18"/>
          <p:cNvSpPr/>
          <p:nvPr/>
        </p:nvSpPr>
        <p:spPr>
          <a:xfrm>
            <a:off x="5500800" y="385776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20"/>
          <p:cNvSpPr/>
          <p:nvPr/>
        </p:nvSpPr>
        <p:spPr>
          <a:xfrm>
            <a:off x="5500800" y="450072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onstantia"/>
              </a:rPr>
              <a:t>Membaca ekstensif adalah membaca secara luas dimana objeknya sebanyak mungkin teks  dalam waktu yang sesingkat mungkin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1. Membaca Surve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Penelaahan dengan cara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indeks-indeks, daftar kata-kata yang terdapat dalam buku-buku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-lihat, memeriksa, meneliti judul-judul bab yang terdapat dalam buku-buku yang bersangkutan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bagan, skema, 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outline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buku yang bersangkut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2. Membaca Sekil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baca sekilas (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skimming)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adalah sejenis membaca yang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membuat mata ki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ergerak dengan cepa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, memperhati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ahan tertulis untu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ncari serta mendapat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informasi dan penerang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da tiga tujuan utama dalam membaca sekilas ini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. untuk memperoleh suatu kesan umum dari suatu buku atau artikel, tulisan singka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. untuk menemukan hal tertentu dari suatu bahan bacaa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c. untuk menemukan/ menempatkan bahan yang diperlukan dalam perpustak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3. Membaca Dang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superficial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 pada dasarnya bertujuan untuk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peroleh pemahaman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dangkal yang bersifat luaran,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tidak mendalam dari suatu bah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ini biasanya dilakukan bila kita membaca demi kesenangan, membaca bacaan ringan yang mendatangkan kebahagiaan di waktu senggang, misalnya membaca cerpen, novel ringan, dsb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intensif adalah studi saksama, telaah isi, d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anganan terperinci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dilaksanakan di dalam kelas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terhadap suatu tugas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dek kira-kira dua sampai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empat halaman setiap har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gian dan teknik membaca intensif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kuesio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pola-pola 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kosa 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telaah kata-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k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skusi um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Yang termasuk ke dalam kelompok membaca intensif ini adalah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isi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content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bahasa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linguistic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bahasa Inggris, istilah </a:t>
            </a:r>
            <a:r>
              <a:rPr b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ahasa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aji ke dalam dua interpretasi, yaitu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rt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seni) yang dipergunakan untuk melukiskan sesuatu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onal, kreatif, dan original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Skills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keterampilan) yang dipakai untuk menyatakan sesuatu 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kanis, eksak, imperso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MPAT KETERAMPILAN BERBAHAS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78552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buClr>
                <a:srgbClr val="10cf9b"/>
              </a:buClr>
              <a:buSzPct val="6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antara berbicara dengan menyimak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jaran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peech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dipelajari melalui menyimak dan meniru (imitasi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adanya pengaruh stimulus yang ditemui (contoh: desa ⪥ kota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ujaran anak mencerminkan domisili, misal: ucapan, intonasi, kosa kata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si, pola-pola kalima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berdasarkan faktor usia, anak yang lebih muda, lebih mudah pah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alimat yang jauh lebih panjang dan rumit daripada kalimat-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dapat diucapkan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e. meningkatkan keterampilan menyimak berarti meningkat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icara seseorang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f. bunyi atau suara merupakan suatu faktor penting dalam peningkat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ara pemakaian kata-kata anak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g. berbicara dengan bantuan alat-alat peraga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visual aid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ghasilkan penangkapan informasi yang lebih baik pada piha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yimak (Dawson (et al) 1963: 29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2520" indent="-9252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 Hubungan antara menyimak dengan membac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ajaran serta petunjuk-petunjuk dalam membaca diberikan oleh guru melalui bahasa lis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yimak merupakan cara atau metode utama bagi pelajaran lis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erbalized learn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khususnya bagi golongan anak yang caca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Walaupun menyimak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listen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lebih unggul daripada membaca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ad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nak-anak sering gagal untuk memahaminya dan tetap menyimpan/ memakai/ menguasai fakta yang mereka dengar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ara pelajar membutuhkan pola pengajaran menyimak lebih efektif dan lebih teratur agar memaksimalkan proses pembelajar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sa kata atau perbendaharaan kata menyimak yang sangat terbatas mempunyai kaitan dengan kesukaran-kesukaran dalam belajar membaca secara baik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2876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3. Hubungan antara menyimak dengan menuli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menyimak dengan baik akan memudahkan seorang anak dal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uangkan apa yang ada dalam interpretasinya secara terstrukt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esuai apa yang dipahami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Seseorang yang memiliki daya simak yang baik akan memiliki day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imajinasi dan intuisi yang baik serta mampu mengapresiasi apa yang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 dalam pikirannya dengan tulis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KSPRESI LISAN DAN EKSPRESI TULI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14200" y="78552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B1 &amp; B2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Menyimak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Berbicar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Membac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Men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lisan: - kurang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sering berubah-ubah (tidak konsiste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iliki kecenderungan lebih kacau dan membingungk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daripada komunikasi t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adanya kemungkinan bergulirnya kalimat yang tak beruju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angkal serta berulang-ula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tulis : - cenderung lebih unggul karena lebih baik dalam penyampaian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isi pikir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kalimat yang tersaji lebih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formal dalam gaya bahasa dan jauh lebih teratur dalam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engertian ide-id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ungkinkan adanya kesempatan untuk memperbaiki kalimat-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kalimatnya beberapa kali sebelum dia menyelesaikan tulisannya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traight Connector 10"/>
          <p:cNvSpPr/>
          <p:nvPr/>
        </p:nvSpPr>
        <p:spPr>
          <a:xfrm flipH="1">
            <a:off x="4572000" y="1143000"/>
            <a:ext cx="1440" cy="357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2"/>
          <p:cNvSpPr/>
          <p:nvPr/>
        </p:nvSpPr>
        <p:spPr>
          <a:xfrm>
            <a:off x="1143000" y="1500120"/>
            <a:ext cx="67867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Straight Arrow Connector 15"/>
          <p:cNvCxnSpPr/>
          <p:nvPr/>
        </p:nvCxnSpPr>
        <p:spPr>
          <a:xfrm flipH="1">
            <a:off x="114120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7" name="Straight Arrow Connector 17"/>
          <p:cNvCxnSpPr/>
          <p:nvPr/>
        </p:nvCxnSpPr>
        <p:spPr>
          <a:xfrm flipH="1">
            <a:off x="378432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8" name="Straight Arrow Connector 19"/>
          <p:cNvCxnSpPr/>
          <p:nvPr/>
        </p:nvCxnSpPr>
        <p:spPr>
          <a:xfrm flipH="1">
            <a:off x="5428440" y="1500120"/>
            <a:ext cx="252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Straight Arrow Connector 21"/>
          <p:cNvCxnSpPr/>
          <p:nvPr/>
        </p:nvCxnSpPr>
        <p:spPr>
          <a:xfrm flipH="1">
            <a:off x="792936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PENGERTIAN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920" y="85680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suatu proses yang dilakukan serta dipergunakan oleh pembaca  untuk memperoleh pesan, yang hendak disampaikan oleh penulis melalui media kata-kata/ bahasa tulis (Hodgson, 1960: 43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ri segi linguistik, membaca adalah suatu proses penyandian kembali dan pembacaan sandi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 recording and decoding prosess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, berlainan dengan berbicara dan menulis yang justru melibatkan penyandi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ncod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(Anderson, 1972: 209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pula diartikan sebagai suatu metode yang kita pergunakan untuk berkomunikasi dengan diri kita sendiri dan kadang-kadang dengan orang lain – yaitu mengkomunikasikan makna yang terkandung atau tersirat pada lambang-lambang tertul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didefinisikan penafsiran yang bermakna terhadap bahasa tulis (Haris dan Sipay, 1980: 447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pemberian makna terhadap tulisan, sesuai dengan maksud penulis (Emerald V. Dechant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komunikasi yang berupa pemerolehan informasi dari penulis kepada pembaca (Frank Smith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tanggapan terhadap pengertian yang dinyatakan penulis dalam kata, kalimat, paragraf, atau bentuk yang lebih panjang (David Russe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ujuan utama membaca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lah untuk mencari serta memperoleh informasi, mencakup isi,  dan memahami makna 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AKIKAT KOMPREHENSI MEMBAC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KBBI Pusat Bahasa dinyatakan bahwa makna dari komprehensi: bersifat mampu menangkap (menerima) dengan baik, luas dan lengkap (tentang ruang lingkup atau isi), mempunyai dan memperlihatkan wawasan yang lu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iga komponen utama komprehensi bacaa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odean kemba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erolehan makna leksi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Organisasi tek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3:57:54Z</dcterms:created>
  <dc:creator>Sg_FuN</dc:creator>
  <dc:description/>
  <dc:language>en-US</dc:language>
  <cp:lastModifiedBy>Sg_FuN</cp:lastModifiedBy>
  <dcterms:modified xsi:type="dcterms:W3CDTF">2011-10-09T14:35:20Z</dcterms:modified>
  <cp:revision>41</cp:revision>
  <dc:subject/>
  <dc:title>KETERAMPILAN BERBAHASA</dc:title>
</cp:coreProperties>
</file>